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6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7DAE-4B5B-4EBF-BFD5-C0A50B9F87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5C56-EDEC-4914-B36E-EFD374A8D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6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8582-F05C-4784-A7AA-B6A0B8C11D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C9C9-1F36-4BE7-A17B-506A77FA8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C56B-EBD3-4B47-9149-98BFBCC27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2548-A518-45BE-ACF1-7D24E66A8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741F-9445-4C4B-B0EF-4D71A7D61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92F5-3A69-4DBF-9008-108656D6B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D9E3-3E46-4A76-95E8-9BDAC797D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037D-1C8B-41CE-9DAE-C36B2B546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8B55-FB8F-44AB-AB5B-40A5BC9ED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7835-6609-430D-8B55-8EE11FCC8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9E7A-0B94-4009-96C8-2C3B38396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3D136-4103-42A1-ABBA-5BE30A70E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0577-33AB-483C-86E9-1D015AF58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5AAD-7A6C-4871-B060-6BFD91756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F50A-B357-47B1-A6C9-B4B7435A1C39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30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31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33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6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reating a Work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ent Reporting and Fiscal Perio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eets help prepare Financial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Statements are used to make company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scal Period – length of time for which a business summarizes and reports  financial information (can be done anytime, but will be done at end of fiscal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 Accountants must 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t Reporting – is applied when the same accounting procedures are followed in the same way in each accounting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ash vs Accr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1959-647B-4A42-B00C-2C2D33CCAF3E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A6D9-9253-4402-800F-19D6BACDDEA0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ING THE HEADING OF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C:\Documents and Settings\mcm08@fuse.net\My Documents\2005 Business Projects\Slides for Century 21 Accounting\Blue\ch06\C21_blue_0601.jpg"/>
          <p:cNvPicPr/>
          <p:nvPr/>
        </p:nvPicPr>
        <p:blipFill>
          <a:blip r:embed="rId1"/>
          <a:srcRect l="13089" t="0" r="12144" b="0"/>
          <a:stretch/>
        </p:blipFill>
        <p:spPr>
          <a:xfrm>
            <a:off x="457200" y="2629080"/>
            <a:ext cx="6095880" cy="2220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5410080" y="3025800"/>
            <a:ext cx="2806920" cy="411120"/>
            <a:chOff x="5410080" y="3025800"/>
            <a:chExt cx="2806920" cy="411120"/>
          </a:xfrm>
        </p:grpSpPr>
        <p:sp>
          <p:nvSpPr>
            <p:cNvPr id="107" name="Text Box 7"/>
            <p:cNvSpPr/>
            <p:nvPr/>
          </p:nvSpPr>
          <p:spPr>
            <a:xfrm>
              <a:off x="5916600" y="3025800"/>
              <a:ext cx="2300400" cy="411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ame of Compa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5410080" y="30258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14"/>
          <p:cNvGrpSpPr/>
          <p:nvPr/>
        </p:nvGrpSpPr>
        <p:grpSpPr>
          <a:xfrm>
            <a:off x="4572000" y="3538440"/>
            <a:ext cx="2482920" cy="411120"/>
            <a:chOff x="4572000" y="3538440"/>
            <a:chExt cx="2482920" cy="411120"/>
          </a:xfrm>
        </p:grpSpPr>
        <p:sp>
          <p:nvSpPr>
            <p:cNvPr id="110" name="Text Box 8"/>
            <p:cNvSpPr/>
            <p:nvPr/>
          </p:nvSpPr>
          <p:spPr>
            <a:xfrm>
              <a:off x="5079960" y="3538440"/>
              <a:ext cx="1974960" cy="411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ame of Re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>
              <a:off x="4572000" y="35384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13"/>
          <p:cNvGrpSpPr/>
          <p:nvPr/>
        </p:nvGrpSpPr>
        <p:grpSpPr>
          <a:xfrm>
            <a:off x="6248520" y="4059360"/>
            <a:ext cx="2338200" cy="419040"/>
            <a:chOff x="6248520" y="4059360"/>
            <a:chExt cx="2338200" cy="419040"/>
          </a:xfrm>
        </p:grpSpPr>
        <p:sp>
          <p:nvSpPr>
            <p:cNvPr id="113" name="Text Box 9"/>
            <p:cNvSpPr/>
            <p:nvPr/>
          </p:nvSpPr>
          <p:spPr>
            <a:xfrm>
              <a:off x="6753240" y="4067280"/>
              <a:ext cx="1833480" cy="411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e of Re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6248520" y="40593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0B7C-7A12-49C4-AB24-F40FD2C886B9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4800600" y="14479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general ledger account tit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4800600" y="211932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general ledger debit account balances. Write the general ledger credit account bal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0"/>
          <p:cNvSpPr/>
          <p:nvPr/>
        </p:nvSpPr>
        <p:spPr>
          <a:xfrm>
            <a:off x="4800600" y="407196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both the Trial Balance Debit and Credit colum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1"/>
          <p:cNvSpPr/>
          <p:nvPr/>
        </p:nvSpPr>
        <p:spPr>
          <a:xfrm>
            <a:off x="4800600" y="340056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a single line across the two Trial Balance colum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2"/>
          <p:cNvSpPr/>
          <p:nvPr/>
        </p:nvSpPr>
        <p:spPr>
          <a:xfrm>
            <a:off x="4800600" y="474336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each column’s total below the single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3"/>
          <p:cNvSpPr/>
          <p:nvPr/>
        </p:nvSpPr>
        <p:spPr>
          <a:xfrm>
            <a:off x="4800600" y="54133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double lines across both Trial Balance colum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ING A TRIAL BALANCE ON A WORK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C:\Documents and Settings\mcm08@fuse.net\My Documents\2005 Business Projects\Slides for Century 21 Accounting\Blue\ch06\C21_blue_0602.jpg"/>
          <p:cNvPicPr/>
          <p:nvPr/>
        </p:nvPicPr>
        <p:blipFill>
          <a:blip r:embed="rId1"/>
          <a:stretch/>
        </p:blipFill>
        <p:spPr>
          <a:xfrm>
            <a:off x="685800" y="1447920"/>
            <a:ext cx="3522600" cy="4876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0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22"/>
          <p:cNvGrpSpPr/>
          <p:nvPr/>
        </p:nvGrpSpPr>
        <p:grpSpPr>
          <a:xfrm>
            <a:off x="219240" y="2514600"/>
            <a:ext cx="695160" cy="3352680"/>
            <a:chOff x="219240" y="2514600"/>
            <a:chExt cx="695160" cy="3352680"/>
          </a:xfrm>
        </p:grpSpPr>
        <p:sp>
          <p:nvSpPr>
            <p:cNvPr id="127" name="Freeform 21"/>
            <p:cNvSpPr/>
            <p:nvPr/>
          </p:nvSpPr>
          <p:spPr>
            <a:xfrm>
              <a:off x="457200" y="2514600"/>
              <a:ext cx="457200" cy="3352680"/>
            </a:xfrm>
            <a:custGeom>
              <a:avLst/>
              <a:gdLst/>
              <a:ahLst/>
              <a:rect l="l" t="t" r="r" b="b"/>
              <a:pathLst>
                <a:path w="288" h="3072">
                  <a:moveTo>
                    <a:pt x="288" y="0"/>
                  </a:moveTo>
                  <a:lnTo>
                    <a:pt x="0" y="0"/>
                  </a:lnTo>
                  <a:lnTo>
                    <a:pt x="0" y="3072"/>
                  </a:lnTo>
                  <a:lnTo>
                    <a:pt x="288" y="30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4"/>
            <p:cNvSpPr/>
            <p:nvPr/>
          </p:nvSpPr>
          <p:spPr>
            <a:xfrm>
              <a:off x="219240" y="3984480"/>
              <a:ext cx="411120" cy="4114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24"/>
          <p:cNvGrpSpPr/>
          <p:nvPr/>
        </p:nvGrpSpPr>
        <p:grpSpPr>
          <a:xfrm>
            <a:off x="3176640" y="1447920"/>
            <a:ext cx="609480" cy="685800"/>
            <a:chOff x="3176640" y="1447920"/>
            <a:chExt cx="609480" cy="685800"/>
          </a:xfrm>
        </p:grpSpPr>
        <p:sp>
          <p:nvSpPr>
            <p:cNvPr id="130" name="Freeform 23"/>
            <p:cNvSpPr/>
            <p:nvPr/>
          </p:nvSpPr>
          <p:spPr>
            <a:xfrm>
              <a:off x="3176640" y="1676520"/>
              <a:ext cx="609480" cy="45720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432"/>
                  </a:moveTo>
                  <a:lnTo>
                    <a:pt x="0" y="0"/>
                  </a:lnTo>
                  <a:lnTo>
                    <a:pt x="384" y="0"/>
                  </a:lnTo>
                  <a:lnTo>
                    <a:pt x="384" y="4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3276720" y="14479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28"/>
          <p:cNvGrpSpPr/>
          <p:nvPr/>
        </p:nvGrpSpPr>
        <p:grpSpPr>
          <a:xfrm>
            <a:off x="4125960" y="2514600"/>
            <a:ext cx="411120" cy="3352680"/>
            <a:chOff x="4125960" y="2514600"/>
            <a:chExt cx="411120" cy="3352680"/>
          </a:xfrm>
        </p:grpSpPr>
        <p:sp>
          <p:nvSpPr>
            <p:cNvPr id="133" name="Freeform 26"/>
            <p:cNvSpPr/>
            <p:nvPr/>
          </p:nvSpPr>
          <p:spPr>
            <a:xfrm flipH="1">
              <a:off x="4129920" y="2514600"/>
              <a:ext cx="219240" cy="3352680"/>
            </a:xfrm>
            <a:custGeom>
              <a:avLst/>
              <a:gdLst/>
              <a:ahLst/>
              <a:rect l="l" t="t" r="r" b="b"/>
              <a:pathLst>
                <a:path w="288" h="3072">
                  <a:moveTo>
                    <a:pt x="288" y="0"/>
                  </a:moveTo>
                  <a:lnTo>
                    <a:pt x="0" y="0"/>
                  </a:lnTo>
                  <a:lnTo>
                    <a:pt x="0" y="3072"/>
                  </a:lnTo>
                  <a:lnTo>
                    <a:pt x="288" y="30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7"/>
            <p:cNvSpPr/>
            <p:nvPr/>
          </p:nvSpPr>
          <p:spPr>
            <a:xfrm>
              <a:off x="4125960" y="3984480"/>
              <a:ext cx="411120" cy="4114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33"/>
          <p:cNvGrpSpPr/>
          <p:nvPr/>
        </p:nvGrpSpPr>
        <p:grpSpPr>
          <a:xfrm>
            <a:off x="2133720" y="5199120"/>
            <a:ext cx="723960" cy="592200"/>
            <a:chOff x="2133720" y="5199120"/>
            <a:chExt cx="723960" cy="592200"/>
          </a:xfrm>
        </p:grpSpPr>
        <p:sp>
          <p:nvSpPr>
            <p:cNvPr id="136" name="Freeform 32"/>
            <p:cNvSpPr/>
            <p:nvPr/>
          </p:nvSpPr>
          <p:spPr>
            <a:xfrm>
              <a:off x="2324160" y="5410080"/>
              <a:ext cx="533520" cy="38124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336" y="240"/>
                  </a:move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16"/>
            <p:cNvSpPr/>
            <p:nvPr/>
          </p:nvSpPr>
          <p:spPr>
            <a:xfrm>
              <a:off x="2133720" y="51991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34"/>
          <p:cNvGrpSpPr/>
          <p:nvPr/>
        </p:nvGrpSpPr>
        <p:grpSpPr>
          <a:xfrm>
            <a:off x="1924200" y="5686560"/>
            <a:ext cx="894960" cy="411120"/>
            <a:chOff x="1924200" y="5686560"/>
            <a:chExt cx="894960" cy="411120"/>
          </a:xfrm>
        </p:grpSpPr>
        <p:sp>
          <p:nvSpPr>
            <p:cNvPr id="139" name="Line 31"/>
            <p:cNvSpPr/>
            <p:nvPr/>
          </p:nvSpPr>
          <p:spPr>
            <a:xfrm flipH="1">
              <a:off x="1996560" y="5896080"/>
              <a:ext cx="82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7"/>
            <p:cNvSpPr/>
            <p:nvPr/>
          </p:nvSpPr>
          <p:spPr>
            <a:xfrm>
              <a:off x="1924200" y="56865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Group 37"/>
          <p:cNvGrpSpPr/>
          <p:nvPr/>
        </p:nvGrpSpPr>
        <p:grpSpPr>
          <a:xfrm>
            <a:off x="4067280" y="5791320"/>
            <a:ext cx="838080" cy="411120"/>
            <a:chOff x="4067280" y="5791320"/>
            <a:chExt cx="838080" cy="411120"/>
          </a:xfrm>
        </p:grpSpPr>
        <p:sp>
          <p:nvSpPr>
            <p:cNvPr id="142" name="Line 36"/>
            <p:cNvSpPr/>
            <p:nvPr/>
          </p:nvSpPr>
          <p:spPr>
            <a:xfrm>
              <a:off x="4067280" y="60055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8"/>
            <p:cNvSpPr/>
            <p:nvPr/>
          </p:nvSpPr>
          <p:spPr>
            <a:xfrm>
              <a:off x="4494240" y="57913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7B56-62C2-49B4-8800-08B937EDA541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c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l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6:17Z</dcterms:created>
  <dc:creator>M. C. McLaughlin</dc:creator>
  <dc:description/>
  <dc:language>en-US</dc:language>
  <cp:lastModifiedBy>bstromes</cp:lastModifiedBy>
  <dcterms:modified xsi:type="dcterms:W3CDTF">2014-10-22T16:04:39Z</dcterms:modified>
  <cp:revision>20</cp:revision>
  <dc:subject/>
  <dc:title>Lesson 6-1</dc:title>
</cp:coreProperties>
</file>